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png" ContentType="image/png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22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29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3.jpeg" ContentType="image/jpeg"/>
  <Override PartName="/ppt/media/image13.wmf" ContentType="image/x-wmf"/>
  <Override PartName="/ppt/media/image27.jpeg" ContentType="image/jpeg"/>
  <Override PartName="/ppt/media/image6.wmf" ContentType="image/x-wmf"/>
  <Override PartName="/ppt/media/image34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03B2-DA7A-4316-9F42-B2C87ED8A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43D1-7AD2-4467-906E-0AEA475F5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A298-FA69-4DE2-878A-0477ED5F8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DE1E7-4C54-4187-B2E6-DA119E786E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AFF0-9BD5-461A-99AF-D4C7EFBF7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A994-CDAC-491D-AB07-76FDB8330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9F23-CE0F-4EE3-9733-095D7F22D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0DC83-1B18-4008-99A4-400AD1C46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27E4-55E3-4FFA-87E3-F22C5EF94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F02C-A3A0-4DB6-990C-899353695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FF3E-ECDA-4810-BE70-798C55A0D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9164-1DDE-4CF6-AE64-7E25E12B5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2AC0-8CC1-4550-925F-6EF7C7ABE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alibri"/>
              </a:rPr>
              <a:t>Chapter #9: </a:t>
            </a:r>
            <a:r>
              <a:rPr b="0" lang="en-US" sz="5400" spc="-1" strike="noStrike">
                <a:solidFill>
                  <a:srgbClr val="3333ff"/>
                </a:solidFill>
                <a:latin typeface="Calibri"/>
              </a:rPr>
              <a:t>Frequency Response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152280" y="56991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ively coupled common-source amplifier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the CS amplifier to determine its low-frequency transfer function. For simplicity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negl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se09F02"/>
          <p:cNvPicPr/>
          <p:nvPr/>
        </p:nvPicPr>
        <p:blipFill>
          <a:blip r:embed="rId1"/>
          <a:stretch/>
        </p:blipFill>
        <p:spPr>
          <a:xfrm>
            <a:off x="2938320" y="304920"/>
            <a:ext cx="3267360" cy="52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52280" y="56991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etch of the low-frequency magnitude response of a CS amplifier for which the three pole frequencies are sufficiently separated for their effects to appear distin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se09F03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535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S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Pole Frequencies by Insp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each capacitor sepa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total resistance seen between terminals of each capaci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E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9.4.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on-emitter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ling capacito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tter bypass capacit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 of these capacitors felt 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 frequen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 i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termine amplifier gain and transfer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nalysis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mewhat more complic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CS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15228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4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apacitively coupled common-emitter amplifier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rcuit prepared for small-signal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se09F04"/>
          <p:cNvPicPr/>
          <p:nvPr/>
        </p:nvPicPr>
        <p:blipFill>
          <a:blip r:embed="rId1"/>
          <a:stretch/>
        </p:blipFill>
        <p:spPr>
          <a:xfrm>
            <a:off x="2760840" y="415800"/>
            <a:ext cx="3620880" cy="522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E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838080" y="2133720"/>
          <a:ext cx="744084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4084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152280" y="54864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the low-frequency response of the CE amplifier of Fig. 9.4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is determined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assumed to be acting as perfect short circuits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determined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assumed to be acting as perfect short circui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se09F05a-b"/>
          <p:cNvPicPr/>
          <p:nvPr/>
        </p:nvPicPr>
        <p:blipFill>
          <a:blip r:embed="rId1"/>
          <a:stretch/>
        </p:blipFill>
        <p:spPr>
          <a:xfrm>
            <a:off x="1774800" y="228600"/>
            <a:ext cx="5464080" cy="509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52280" y="54100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inu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is determined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d to be acting as perfect short circuits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d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etch of the low-frequency gain under the assumptions th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do not interact and that their break (or pole) frequencies are widely separa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se09F05c-d"/>
          <p:cNvPicPr/>
          <p:nvPr/>
        </p:nvPicPr>
        <p:blipFill>
          <a:blip r:embed="rId1"/>
          <a:stretch/>
        </p:blipFill>
        <p:spPr>
          <a:xfrm>
            <a:off x="1295280" y="284040"/>
            <a:ext cx="6435720" cy="497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E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533520" y="1795320"/>
          <a:ext cx="7989840" cy="491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95320"/>
                    <a:ext cx="7989840" cy="49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2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ternal Capacitive Effects and the High-Frequency Model of the MOSFET and BJ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FET has internal capacitance (this is appar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gate capacitive effe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ate electrode forms a parallel plate capacitor with the chann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source-body and drain-body depletion layer capacitanc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se are the capacitances of the reverse-bias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j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, it was assumed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rges are acquired instantaneous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resulting in steady-stat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ssumption poses problem for frequen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upling and bypass capac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use the gain of discrete circuit amplifiers to fall off at low frequencies, and how to obtain an estimate of the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which the gain decreases by 3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 its value at midb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ternal capacitive effects present in the MOSFET and the BJ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how to model these effects by adding capacitances to the hybrid-p model of each of the two transistor ty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igh-frequency limi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the gain of the CS and CE amplifiers and how the gain falloff and the upper 3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mostly determined by the small capacitances between the drain and gate (collector and bas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Gate Capacitive Effec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1828800" y="2209680"/>
          <a:ext cx="544824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544824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Junction Capacitanc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627200" y="2703600"/>
          <a:ext cx="5840280" cy="27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2703600"/>
                    <a:ext cx="584028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52280" y="56991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6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frequency, equivalent-circuit model for the MOSFET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quivalent circuit for the case in which the source is connected to the substrate (body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se09F06a-b"/>
          <p:cNvPicPr/>
          <p:nvPr/>
        </p:nvPicPr>
        <p:blipFill>
          <a:blip r:embed="rId1"/>
          <a:stretch/>
        </p:blipFill>
        <p:spPr>
          <a:xfrm>
            <a:off x="2155680" y="341280"/>
            <a:ext cx="4854600" cy="52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15228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6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continued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quivalent-circuit model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db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lected (to simplify analysi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6" descr="se09F06c"/>
          <p:cNvPicPr/>
          <p:nvPr/>
        </p:nvPicPr>
        <p:blipFill>
          <a:blip r:embed="rId1"/>
          <a:stretch/>
        </p:blipFill>
        <p:spPr>
          <a:xfrm>
            <a:off x="441360" y="1292400"/>
            <a:ext cx="8245440" cy="44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MOSFET Unity-Gain Frequ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600200" y="2743200"/>
          <a:ext cx="58402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58402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635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2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BJ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MOSFET, previously it was assumed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stor action was instantane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ady-stat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lects frequency-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ual transistors exhib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rge-stor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ugmented BJT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required to examine this depen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2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BJ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739800" y="2057400"/>
          <a:ext cx="764208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057400"/>
                    <a:ext cx="76420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se09F08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2898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F"/>
          <p:cNvPicPr/>
          <p:nvPr/>
        </p:nvPicPr>
        <p:blipFill>
          <a:blip r:embed="rId2"/>
          <a:stretch/>
        </p:blipFill>
        <p:spPr>
          <a:xfrm>
            <a:off x="228600" y="6019920"/>
            <a:ext cx="8534520" cy="58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utoff Frequenc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533520" y="2590920"/>
          <a:ext cx="798984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798984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ful methods for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alysis of the high-frequency respon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mplifier circuits of varying complex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scode amplifier studied in Chapter 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designed to obtain wider bandwidth than is possible with CS and CE ampl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igh-frequency perform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source and emitter follow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igh-frequency performance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ifferential ampl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configurations for obtaini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deband ampl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se09F09"/>
          <p:cNvPicPr/>
          <p:nvPr/>
        </p:nvPicPr>
        <p:blipFill>
          <a:blip r:embed="rId1"/>
          <a:stretch/>
        </p:blipFill>
        <p:spPr>
          <a:xfrm>
            <a:off x="152280" y="2362320"/>
            <a:ext cx="8763120" cy="269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9"/>
          <p:cNvPicPr/>
          <p:nvPr/>
        </p:nvPicPr>
        <p:blipFill>
          <a:blip r:embed="rId2"/>
          <a:stretch/>
        </p:blipFill>
        <p:spPr>
          <a:xfrm>
            <a:off x="396720" y="6184800"/>
            <a:ext cx="8442360" cy="44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se09F10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5214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9"/>
          <p:cNvPicPr/>
          <p:nvPr/>
        </p:nvPicPr>
        <p:blipFill>
          <a:blip r:embed="rId2"/>
          <a:stretch/>
        </p:blipFill>
        <p:spPr>
          <a:xfrm>
            <a:off x="1523880" y="5958000"/>
            <a:ext cx="6019920" cy="61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28600" y="712800"/>
            <a:ext cx="8610480" cy="538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2133720"/>
            <a:ext cx="44197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3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igh-Frequency Response of the CS and CE Amplifi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 is to identify the mechanism tha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mits high-frequency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well as fin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se09F12"/>
          <p:cNvPicPr/>
          <p:nvPr/>
        </p:nvPicPr>
        <p:blipFill>
          <a:blip r:embed="rId1"/>
          <a:stretch/>
        </p:blipFill>
        <p:spPr>
          <a:xfrm>
            <a:off x="3505320" y="3581280"/>
            <a:ext cx="5257800" cy="2979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228600" y="3718080"/>
            <a:ext cx="29718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quency response of a direct-coupled (dc) amplifier. Observe that the gain do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ll off at low frequencies, and the midband gai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ds down to zero frequen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3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ommon-Source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9.13(a)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-frequency equivalent-circuit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CS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FET is replaced with model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9.6(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be simplified 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’s theor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ridging capacitor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g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 be redef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s rise to mu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r capaci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eq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ication ef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it undergoes is known as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iller Ef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se09F13a-b"/>
          <p:cNvPicPr/>
          <p:nvPr/>
        </p:nvPicPr>
        <p:blipFill>
          <a:blip r:embed="rId1"/>
          <a:stretch/>
        </p:blipFill>
        <p:spPr>
          <a:xfrm>
            <a:off x="1434960" y="345960"/>
            <a:ext cx="6108840" cy="5216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228600" y="57150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the high-frequency response of the CS amplifier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rcui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ied at the input and the output;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28600" y="571500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quivalent circuit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d at the input side with the equivalent capacitanc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d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requency response plot, which is that of a low-pass, single-time-consta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se09F13c-d"/>
          <p:cNvPicPr/>
          <p:nvPr/>
        </p:nvPicPr>
        <p:blipFill>
          <a:blip r:embed="rId1"/>
          <a:stretch/>
        </p:blipFill>
        <p:spPr>
          <a:xfrm>
            <a:off x="1881360" y="380880"/>
            <a:ext cx="5381280" cy="521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3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ommon-Emitter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9.14(a)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-frequency equival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 of a C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JT is replac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igure applie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oth discrete and IC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igure may be simplified 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’s theor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imply sum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Miller capacitance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28600" y="57150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the high-frequency response of the CE amplifier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rcui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ied at both the input side and the output side;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sedr42021_0572a-b"/>
          <p:cNvPicPr/>
          <p:nvPr/>
        </p:nvPicPr>
        <p:blipFill>
          <a:blip r:embed="rId1"/>
          <a:stretch/>
        </p:blipFill>
        <p:spPr>
          <a:xfrm>
            <a:off x="1530360" y="380880"/>
            <a:ext cx="6083280" cy="521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sedr42021_0572c-d"/>
          <p:cNvPicPr/>
          <p:nvPr/>
        </p:nvPicPr>
        <p:blipFill>
          <a:blip r:embed="rId1"/>
          <a:stretch/>
        </p:blipFill>
        <p:spPr>
          <a:xfrm>
            <a:off x="1981080" y="228600"/>
            <a:ext cx="5119920" cy="63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 assumed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ain is const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dependent of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d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ndwidth was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ddle-frequency band (midba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range of frequencies over which device gain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4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seful Tools for the Analysis of the High-Frequency Response of Amplifi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roximate method used in previous sections to analyze the high-frequency response of amps provides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ok” estim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does not apply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complex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ection discus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ther too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4.1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High Frequency Gain Func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p gain is expressed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unction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equation (9.6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 be determined by assuming transist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ternal capacitances are open circui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llows derivation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tion (9.6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4.2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termining the 3-dB Frequenc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-frequency band closest to midb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generally of greatest conce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needs to estimate upper 3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one pole (predominantly) dictates the high-frequency response of an amplifier, this pole is called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ominant-pole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rule of thumb, a dominant pole exists if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est-frequency pole is at least two octaves (a factor of 4) aw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 nearest pole or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4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iller’s Theorem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situation shown in Figure 9.17(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art of a larger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is unkn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iller’s 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s that impedance Z can be replaced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impedan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1 connected between node 1 and 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9.76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Z/(1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2 connected between node 2 nd ground 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9.76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Z/(1-1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85800" y="5927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iller equivale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se09F17"/>
          <p:cNvPicPr/>
          <p:nvPr/>
        </p:nvPicPr>
        <p:blipFill>
          <a:blip r:embed="rId1"/>
          <a:stretch/>
        </p:blipFill>
        <p:spPr>
          <a:xfrm>
            <a:off x="228600" y="1760400"/>
            <a:ext cx="8686800" cy="334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76320" y="1981080"/>
            <a:ext cx="441936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Equivalent Circui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16880" y="6172200"/>
            <a:ext cx="8308440" cy="398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ized high-frequency equivalent circuit for the CS amplif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" descr="se09F19"/>
          <p:cNvPicPr/>
          <p:nvPr/>
        </p:nvPicPr>
        <p:blipFill>
          <a:blip r:embed="rId1"/>
          <a:stretch/>
        </p:blipFill>
        <p:spPr>
          <a:xfrm>
            <a:off x="152280" y="2282760"/>
            <a:ext cx="8686800" cy="31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2057400"/>
            <a:ext cx="44197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alysis Using Miller’s Theorem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se09F20"/>
          <p:cNvPicPr/>
          <p:nvPr/>
        </p:nvPicPr>
        <p:blipFill>
          <a:blip r:embed="rId1"/>
          <a:stretch/>
        </p:blipFill>
        <p:spPr>
          <a:xfrm>
            <a:off x="152280" y="2552760"/>
            <a:ext cx="8763120" cy="27050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457200" y="5638680"/>
            <a:ext cx="8229600" cy="10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high-frequency equivalent circuit model of the CS amplifier after the application of Miller’s theorem to replace the bridging capacit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two capacitors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-1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 =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s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5.3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alysis Using Open-Circuit Time Consta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52280" y="2133720"/>
            <a:ext cx="46483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se09F21"/>
          <p:cNvPicPr/>
          <p:nvPr/>
        </p:nvPicPr>
        <p:blipFill>
          <a:blip r:embed="rId1"/>
          <a:stretch/>
        </p:blipFill>
        <p:spPr>
          <a:xfrm>
            <a:off x="3344760" y="1905120"/>
            <a:ext cx="5570640" cy="47624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28600" y="501336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the open-circuit time-constants method to the CS equivalent circuit of Fig. 9.1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1981080"/>
            <a:ext cx="41148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xact Analysi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se09F22"/>
          <p:cNvPicPr/>
          <p:nvPr/>
        </p:nvPicPr>
        <p:blipFill>
          <a:blip r:embed="rId1"/>
          <a:stretch/>
        </p:blipFill>
        <p:spPr>
          <a:xfrm>
            <a:off x="152280" y="2354400"/>
            <a:ext cx="8763120" cy="2827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1147680" y="5562720"/>
            <a:ext cx="68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the CS high-frequency equivale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0" y="2057400"/>
            <a:ext cx="396252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xact Analysi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5" descr="se09F23"/>
          <p:cNvPicPr/>
          <p:nvPr/>
        </p:nvPicPr>
        <p:blipFill>
          <a:blip r:embed="rId1"/>
          <a:stretch/>
        </p:blipFill>
        <p:spPr>
          <a:xfrm>
            <a:off x="147600" y="2590920"/>
            <a:ext cx="8767800" cy="2438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609480" y="533412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S circuit 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output voltag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0, enabling us to determin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a node equation at 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9" descr="se09F01"/>
          <p:cNvPicPr/>
          <p:nvPr/>
        </p:nvPicPr>
        <p:blipFill>
          <a:blip r:embed="rId1"/>
          <a:stretch/>
        </p:blipFill>
        <p:spPr>
          <a:xfrm>
            <a:off x="380880" y="1523880"/>
            <a:ext cx="8272440" cy="4086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4"/>
          <p:cNvSpPr/>
          <p:nvPr/>
        </p:nvSpPr>
        <p:spPr>
          <a:xfrm>
            <a:off x="152280" y="56991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etch of the magnitude of the gain of a discrete-circuit BJT or MOS amplifier versus frequency. The graph delineates the three frequency bands relevant to frequency-response determin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2057400"/>
            <a:ext cx="4038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5.5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apting the Formulas for the Case of the CE Amplifier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5" descr="se09F24"/>
          <p:cNvPicPr/>
          <p:nvPr/>
        </p:nvPicPr>
        <p:blipFill>
          <a:blip r:embed="rId1"/>
          <a:stretch/>
        </p:blipFill>
        <p:spPr>
          <a:xfrm>
            <a:off x="2438280" y="2184480"/>
            <a:ext cx="4332240" cy="3301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457200" y="5638680"/>
            <a:ext cx="82296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4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frequency equivalent circuit of the common-emitter amplifier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 obtained after Thévenin theorem has been employed to simplify the resistive circuit at the inp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057400"/>
            <a:ext cx="44197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6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Situation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Low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5" descr="se09F25a-b"/>
          <p:cNvPicPr/>
          <p:nvPr/>
        </p:nvPicPr>
        <p:blipFill>
          <a:blip r:embed="rId1"/>
          <a:stretch/>
        </p:blipFill>
        <p:spPr>
          <a:xfrm>
            <a:off x="2552760" y="2127240"/>
            <a:ext cx="3924360" cy="34941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228600" y="5638680"/>
            <a:ext cx="868680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5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frequency equivalent circuit of a CS amplifier fed with a signal source having a very low (effectively zero) resistance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rcuit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duced to zero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pling and bypass capacitors utilized in discrete-circuit amplifiers cause the amplifier gain to fall off at low frequencies.  The frequencies of the low-frequency poles can be estimated by considering each of these capacitors separately and determining the resistance seen by the capacitor.  The highest-frequency pole is that which determines the lower 3-dB frequency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MOSFET and the BJT have internal capacitive effects that can be modeled by augmenting the device hybrid-pi model with capacitan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OSFE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J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ernal capacitances of the MOSFET and the BJT cause the amplifier gain to fall off at high frequencies.  An estimate of the amplifier bandwidth is provided by the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which the gain drops 3dB below its value at midband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 A figure-of-merit for the amplifier is the gain-bandwidth product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 Usually, it is possible to trade gain for increased bandwidth,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maining nearly constant.  For amplifiers with a dominant pole with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gain falls off at a uniform 6dB/octave rate, reaching 0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igh-frequency response of the CS and CE amplifiers is severly limited by the Miller eff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of open-circuit time constants provides a simple and powerful way to obtain a reasonably good estimate of the upper 3-dB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capacitors that limit the high-frequency response are considered one at a time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0 and all other capacitances are set to zero (open circuited).  The resistance seen by each capacitance is determined, and the overall time constant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s obtained by summing the individual time constants.  The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found as 1/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G and CB amplifiers do not suffer from the Miller eff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urce and emitter followers do not suffer from Miller eff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igh-frequency response of the differential amplifier can  be obtained by considering the differential and common-mode half-circuits.  The CMRR falls off at a relatively low frequency determined by the output impedance of the bias current 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igh-frequency response of the current-mirror-loaded differential amplifier is complicated by the fact that there are two signal paths between input and output: a direct path and one through the current mirr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ing two transistors in a way that eliminated or minimizes the Miller effect can result in much wider bandwid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1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Low Frequency Response of the Common-Source and Common-Emitter Amplifi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9.2(a) shows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screte-circuit, common-sourc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ling capacito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pass capacit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 is to determine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ffect of these capacita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low frequencies, thei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actance (1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high and gain is 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S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9.2(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llustrates this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sources elimin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-sign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no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S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1114560" y="1752480"/>
          <a:ext cx="6810120" cy="48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752480"/>
                    <a:ext cx="68101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S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685800" y="2170080"/>
          <a:ext cx="766908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70080"/>
                    <a:ext cx="766908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5:20Z</dcterms:modified>
  <cp:revision>394</cp:revision>
  <dc:subject/>
  <dc:title>Slide 1</dc:title>
</cp:coreProperties>
</file>